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EB9-97A5-49B8-8EA7-456586E1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D88-2BA7-4DF4-B361-53225BFB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1EA-B6EE-450A-8F7A-654881CC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BC5-F444-4533-ADDC-06F6749C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E8A-59A2-4D4A-9B3A-4B814B5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8CB-AA8E-49E0-9139-4D2D4691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EC9-673B-4BF7-8EC1-A6944445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8AB-BF64-456B-9D75-88F12B88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531-BF81-43B7-85F4-4F9BBB89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273-8CBF-4C52-9A84-679CAF96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F08-6139-422B-8B7A-344A358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896-9737-414B-BBAE-5F85F01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8E1-DF35-4E88-9138-0A32E40A8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81440" y="6015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7440" y="1873080"/>
            <a:ext cx="107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45520" y="2062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4000" y="400860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86040" y="4008600"/>
            <a:ext cx="135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Ch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86440" y="4587840"/>
            <a:ext cx="220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3811320" y="1061280"/>
            <a:ext cx="575280" cy="1001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  <a:endCxn id="43" idx="0"/>
          </p:cNvCxnSpPr>
          <p:nvPr/>
        </p:nvCxnSpPr>
        <p:spPr>
          <a:xfrm flipH="1">
            <a:off x="1923840" y="1061280"/>
            <a:ext cx="188784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flipH="1">
            <a:off x="1963080" y="2521800"/>
            <a:ext cx="242352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2"/>
            <a:endCxn id="46" idx="0"/>
          </p:cNvCxnSpPr>
          <p:nvPr/>
        </p:nvCxnSpPr>
        <p:spPr>
          <a:xfrm flipH="1">
            <a:off x="4363920" y="2521800"/>
            <a:ext cx="2268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3587760" y="4802040"/>
            <a:ext cx="1973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360" y="452268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62440" y="4008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4" idx="2"/>
            <a:endCxn id="54" idx="0"/>
          </p:cNvCxnSpPr>
          <p:nvPr/>
        </p:nvCxnSpPr>
        <p:spPr>
          <a:xfrm>
            <a:off x="4386240" y="2521800"/>
            <a:ext cx="2381400" cy="148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11:02Z</dcterms:modified>
  <cp:revision>4</cp:revision>
  <dc:subject/>
  <dc:title>PowerPoint Presentation</dc:title>
</cp:coreProperties>
</file>